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C623-04F7-4C4F-B704-DE1C49F66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473E-845D-4423-9CE0-EA534BC01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A9AB-10E7-4097-83F1-C3A92865C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1A2E-FB3E-45BB-B09D-857781ABC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D79C-2E38-4B45-A029-16AF6ECF4C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31536-CB22-4ACF-A02C-DB43E8F922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A1C0-4E81-4EC7-B736-B576926AC7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DABC8-711E-4EC9-BE02-A832DF3F30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EB0D-34A9-4898-B037-65E69D7AD5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352EE-CC9B-480D-B0EA-A01207705E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55A23-DFB2-43D7-B91B-2BDF498E08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735A-265F-4A36-8AC4-182B40DC6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F670-A6AE-49A6-99C9-0C30C47952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CDCF-3BD3-48F7-922E-0521A7C600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04ABB-2D41-4FD6-892D-7290DB4180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1D337-BB0C-4848-A382-E4C802DBB5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74AEA-061D-489B-B8F0-16C55B89D7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B822-60EB-42B0-9DA5-0D1B6E8B4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7CA34-E189-4018-92CC-261E7982B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B1DC-7501-4A59-BF47-4AB5A8600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79E6-02EA-4F4D-8EDD-57DEF52B2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8976-6B67-469F-8888-3B933A3D5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9906-D528-4BB7-AEBC-07B196A0F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F02C-42F4-4F99-A2E4-7553AA6D6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116480" y="6694560"/>
            <a:ext cx="20178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3083-F95F-486F-B808-3AF9907337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2"/>
          <p:cNvSpPr/>
          <p:nvPr/>
        </p:nvSpPr>
        <p:spPr>
          <a:xfrm>
            <a:off x="0" y="6575400"/>
            <a:ext cx="9144000" cy="284040"/>
          </a:xfrm>
          <a:prstGeom prst="rect">
            <a:avLst/>
          </a:prstGeom>
          <a:solidFill>
            <a:srgbClr val="3133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GB" sz="1900" spc="-1" strike="noStrike">
                <a:solidFill>
                  <a:srgbClr val="558ed5"/>
                </a:solidFill>
                <a:latin typeface="Arial Black"/>
              </a:rPr>
              <a:t>Direzione 5° tronco -  FIANO ROMANO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53"/>
          <p:cNvGrpSpPr/>
          <p:nvPr/>
        </p:nvGrpSpPr>
        <p:grpSpPr>
          <a:xfrm>
            <a:off x="0" y="0"/>
            <a:ext cx="9144000" cy="439200"/>
            <a:chOff x="0" y="0"/>
            <a:chExt cx="9144000" cy="439200"/>
          </a:xfrm>
        </p:grpSpPr>
        <p:sp>
          <p:nvSpPr>
            <p:cNvPr id="39" name="Text Box 9"/>
            <p:cNvSpPr/>
            <p:nvPr/>
          </p:nvSpPr>
          <p:spPr>
            <a:xfrm>
              <a:off x="5888520" y="8280"/>
              <a:ext cx="278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Tahoma"/>
                </a:rPr>
                <a:t>Videoconferenza del 17/6/2009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86"/>
            <p:cNvGrpSpPr/>
            <p:nvPr/>
          </p:nvGrpSpPr>
          <p:grpSpPr>
            <a:xfrm>
              <a:off x="0" y="0"/>
              <a:ext cx="9144000" cy="439200"/>
              <a:chOff x="0" y="0"/>
              <a:chExt cx="9144000" cy="439200"/>
            </a:xfrm>
          </p:grpSpPr>
          <p:sp>
            <p:nvSpPr>
              <p:cNvPr id="41" name="Rectangle 87"/>
              <p:cNvSpPr/>
              <p:nvPr/>
            </p:nvSpPr>
            <p:spPr>
              <a:xfrm>
                <a:off x="2195640" y="8280"/>
                <a:ext cx="6948360" cy="266760"/>
              </a:xfrm>
              <a:prstGeom prst="rect">
                <a:avLst/>
              </a:prstGeom>
              <a:solidFill>
                <a:srgbClr val="291b5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280" rIns="98280" tIns="48960" bIns="48960" anchor="ctr">
                <a:noAutofit/>
              </a:bodyPr>
              <a:p>
                <a:pPr algn="r">
                  <a:tabLst>
                    <a:tab algn="l" pos="0"/>
                    <a:tab algn="l" pos="982800"/>
                    <a:tab algn="l" pos="1965240"/>
                    <a:tab algn="l" pos="2948040"/>
                    <a:tab algn="l" pos="3930480"/>
                    <a:tab algn="l" pos="4913280"/>
                    <a:tab algn="l" pos="5896080"/>
                    <a:tab algn="l" pos="6878520"/>
                    <a:tab algn="l" pos="7861320"/>
                    <a:tab algn="l" pos="8844120"/>
                    <a:tab algn="l" pos="9826560"/>
                    <a:tab algn="l" pos="1080936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" name="Group 88"/>
              <p:cNvGrpSpPr/>
              <p:nvPr/>
            </p:nvGrpSpPr>
            <p:grpSpPr>
              <a:xfrm>
                <a:off x="2268360" y="5760"/>
                <a:ext cx="6875280" cy="386640"/>
                <a:chOff x="2268360" y="5760"/>
                <a:chExt cx="6875280" cy="386640"/>
              </a:xfrm>
            </p:grpSpPr>
            <p:sp>
              <p:nvSpPr>
                <p:cNvPr id="43" name="Line 89"/>
                <p:cNvSpPr/>
                <p:nvPr/>
              </p:nvSpPr>
              <p:spPr>
                <a:xfrm>
                  <a:off x="2268360" y="5760"/>
                  <a:ext cx="6875280" cy="0"/>
                </a:xfrm>
                <a:prstGeom prst="line">
                  <a:avLst/>
                </a:prstGeom>
                <a:ln w="19080">
                  <a:solidFill>
                    <a:srgbClr val="3133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Line 90"/>
                <p:cNvSpPr/>
                <p:nvPr/>
              </p:nvSpPr>
              <p:spPr>
                <a:xfrm>
                  <a:off x="2268360" y="42120"/>
                  <a:ext cx="6875280" cy="0"/>
                </a:xfrm>
                <a:prstGeom prst="line">
                  <a:avLst/>
                </a:prstGeom>
                <a:ln w="19080">
                  <a:solidFill>
                    <a:srgbClr val="3133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Line 91"/>
                <p:cNvSpPr/>
                <p:nvPr/>
              </p:nvSpPr>
              <p:spPr>
                <a:xfrm>
                  <a:off x="2268360" y="74520"/>
                  <a:ext cx="6875280" cy="0"/>
                </a:xfrm>
                <a:prstGeom prst="line">
                  <a:avLst/>
                </a:prstGeom>
                <a:ln w="19080">
                  <a:solidFill>
                    <a:srgbClr val="3133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92"/>
                <p:cNvSpPr/>
                <p:nvPr/>
              </p:nvSpPr>
              <p:spPr>
                <a:xfrm>
                  <a:off x="2268360" y="110880"/>
                  <a:ext cx="6875280" cy="0"/>
                </a:xfrm>
                <a:prstGeom prst="line">
                  <a:avLst/>
                </a:prstGeom>
                <a:ln w="19080">
                  <a:solidFill>
                    <a:srgbClr val="3133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93"/>
                <p:cNvSpPr/>
                <p:nvPr/>
              </p:nvSpPr>
              <p:spPr>
                <a:xfrm>
                  <a:off x="2268360" y="144720"/>
                  <a:ext cx="6875280" cy="0"/>
                </a:xfrm>
                <a:prstGeom prst="line">
                  <a:avLst/>
                </a:prstGeom>
                <a:ln w="19080">
                  <a:solidFill>
                    <a:srgbClr val="3133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Line 94"/>
                <p:cNvSpPr/>
                <p:nvPr/>
              </p:nvSpPr>
              <p:spPr>
                <a:xfrm>
                  <a:off x="2268360" y="180000"/>
                  <a:ext cx="6875280" cy="0"/>
                </a:xfrm>
                <a:prstGeom prst="line">
                  <a:avLst/>
                </a:prstGeom>
                <a:ln w="19080">
                  <a:solidFill>
                    <a:srgbClr val="3133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Line 95"/>
                <p:cNvSpPr/>
                <p:nvPr/>
              </p:nvSpPr>
              <p:spPr>
                <a:xfrm>
                  <a:off x="2268360" y="216360"/>
                  <a:ext cx="6875280" cy="0"/>
                </a:xfrm>
                <a:prstGeom prst="line">
                  <a:avLst/>
                </a:prstGeom>
                <a:ln w="19080">
                  <a:solidFill>
                    <a:srgbClr val="3133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Line 96"/>
                <p:cNvSpPr/>
                <p:nvPr/>
              </p:nvSpPr>
              <p:spPr>
                <a:xfrm>
                  <a:off x="2268360" y="253080"/>
                  <a:ext cx="6875280" cy="0"/>
                </a:xfrm>
                <a:prstGeom prst="line">
                  <a:avLst/>
                </a:prstGeom>
                <a:ln w="19080">
                  <a:solidFill>
                    <a:srgbClr val="3133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Line 97"/>
                <p:cNvSpPr/>
                <p:nvPr/>
              </p:nvSpPr>
              <p:spPr>
                <a:xfrm>
                  <a:off x="2268360" y="285120"/>
                  <a:ext cx="6875280" cy="0"/>
                </a:xfrm>
                <a:prstGeom prst="line">
                  <a:avLst/>
                </a:prstGeom>
                <a:ln w="19080">
                  <a:solidFill>
                    <a:srgbClr val="3133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Line 98"/>
                <p:cNvSpPr/>
                <p:nvPr/>
              </p:nvSpPr>
              <p:spPr>
                <a:xfrm>
                  <a:off x="2268360" y="321840"/>
                  <a:ext cx="6875280" cy="0"/>
                </a:xfrm>
                <a:prstGeom prst="line">
                  <a:avLst/>
                </a:prstGeom>
                <a:ln w="19080">
                  <a:solidFill>
                    <a:srgbClr val="3133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Line 99"/>
                <p:cNvSpPr/>
                <p:nvPr/>
              </p:nvSpPr>
              <p:spPr>
                <a:xfrm>
                  <a:off x="2268360" y="355680"/>
                  <a:ext cx="6875280" cy="0"/>
                </a:xfrm>
                <a:prstGeom prst="line">
                  <a:avLst/>
                </a:prstGeom>
                <a:ln w="19080">
                  <a:solidFill>
                    <a:srgbClr val="3133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Line 100"/>
                <p:cNvSpPr/>
                <p:nvPr/>
              </p:nvSpPr>
              <p:spPr>
                <a:xfrm>
                  <a:off x="2268360" y="392400"/>
                  <a:ext cx="6875280" cy="0"/>
                </a:xfrm>
                <a:prstGeom prst="line">
                  <a:avLst/>
                </a:prstGeom>
                <a:ln w="19080">
                  <a:solidFill>
                    <a:srgbClr val="3133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" name="Oval 101"/>
              <p:cNvSpPr/>
              <p:nvPr/>
            </p:nvSpPr>
            <p:spPr>
              <a:xfrm>
                <a:off x="2043000" y="0"/>
                <a:ext cx="279360" cy="278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02"/>
              <p:cNvSpPr/>
              <p:nvPr/>
            </p:nvSpPr>
            <p:spPr>
              <a:xfrm>
                <a:off x="0" y="286920"/>
                <a:ext cx="9144000" cy="1522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280" rIns="9828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82800"/>
                    <a:tab algn="l" pos="1965240"/>
                    <a:tab algn="l" pos="2948040"/>
                    <a:tab algn="l" pos="3930480"/>
                    <a:tab algn="l" pos="4913280"/>
                    <a:tab algn="l" pos="5896080"/>
                    <a:tab algn="l" pos="6878520"/>
                    <a:tab algn="l" pos="7861320"/>
                    <a:tab algn="l" pos="8844120"/>
                    <a:tab algn="l" pos="9826560"/>
                    <a:tab algn="l" pos="1080936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57" name="Object 103"/>
              <p:cNvGraphicFramePr/>
              <p:nvPr/>
            </p:nvGraphicFramePr>
            <p:xfrm>
              <a:off x="179280" y="11520"/>
              <a:ext cx="1979640" cy="2678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8" name="Object 10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79280" y="11520"/>
                        <a:ext cx="1979640" cy="267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9" name="PlaceHolder 1"/>
          <p:cNvSpPr>
            <a:spLocks noGrp="1"/>
          </p:cNvSpPr>
          <p:nvPr>
            <p:ph type="sldNum" idx="2"/>
          </p:nvPr>
        </p:nvSpPr>
        <p:spPr>
          <a:xfrm>
            <a:off x="7116480" y="6589800"/>
            <a:ext cx="201780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10FF-2AA3-4424-9FE5-14A6C0197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7"/>
          <p:cNvSpPr/>
          <p:nvPr/>
        </p:nvSpPr>
        <p:spPr>
          <a:xfrm>
            <a:off x="7116840" y="6589800"/>
            <a:ext cx="2017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0C91-F257-417F-84DA-3DC2BDAB827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738360" y="2491200"/>
            <a:ext cx="7843680" cy="1588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 u="sng">
                <a:solidFill>
                  <a:srgbClr val="1f497d"/>
                </a:solidFill>
                <a:uFillTx/>
                <a:latin typeface="Arial"/>
              </a:rPr>
              <a:t>MANUTENZIONE IN HOU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 u="sng">
                <a:solidFill>
                  <a:srgbClr val="1f497d"/>
                </a:solidFill>
                <a:uFillTx/>
                <a:latin typeface="Arial"/>
              </a:rPr>
              <a:t>CHIUSURA BUCHE A CALD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1f497d"/>
                </a:solidFill>
                <a:uFillTx/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egnaposto numero diapositiva 1"/>
          <p:cNvSpPr/>
          <p:nvPr/>
        </p:nvSpPr>
        <p:spPr>
          <a:xfrm>
            <a:off x="7116840" y="6589800"/>
            <a:ext cx="2017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0045-E2DF-4DE3-AF8C-03147D740CA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328680" y="2455920"/>
            <a:ext cx="70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Le fasi di lavo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ttangolo 3"/>
          <p:cNvSpPr/>
          <p:nvPr/>
        </p:nvSpPr>
        <p:spPr>
          <a:xfrm>
            <a:off x="316080" y="609480"/>
            <a:ext cx="2168280" cy="3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IND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328680" y="1200240"/>
            <a:ext cx="70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L’ambito operativ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330120" y="2867040"/>
            <a:ext cx="708516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marL="177840" indent="-177840"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99"/>
                </a:solidFill>
                <a:latin typeface="Arial"/>
              </a:rPr>
              <a:t>Posa della segnalet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99"/>
                </a:solidFill>
                <a:latin typeface="Arial"/>
              </a:rPr>
              <a:t>Composizione e dislocazione della squad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99"/>
                </a:solidFill>
                <a:latin typeface="Arial"/>
              </a:rPr>
              <a:t>Circoscrizione dell’area di interven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99"/>
                </a:solidFill>
                <a:latin typeface="Arial"/>
              </a:rPr>
              <a:t>Fresatu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99"/>
                </a:solidFill>
                <a:latin typeface="Arial"/>
              </a:rPr>
              <a:t>Stesa del conglomerato bituminos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99"/>
                </a:solidFill>
                <a:latin typeface="Arial"/>
              </a:rPr>
              <a:t>Rullatu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99"/>
                </a:solidFill>
                <a:latin typeface="Arial"/>
              </a:rPr>
              <a:t>Segnaletica orizzonta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ttangolo 6"/>
          <p:cNvSpPr/>
          <p:nvPr/>
        </p:nvSpPr>
        <p:spPr>
          <a:xfrm>
            <a:off x="306360" y="16128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99"/>
                </a:solidFill>
                <a:latin typeface="Arial"/>
              </a:rPr>
              <a:t>Oggetto degli intervent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99"/>
                </a:solidFill>
                <a:latin typeface="Arial"/>
              </a:rPr>
              <a:t>Tratte interess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numero diapositiva 1"/>
          <p:cNvSpPr/>
          <p:nvPr/>
        </p:nvSpPr>
        <p:spPr>
          <a:xfrm>
            <a:off x="7116840" y="6589800"/>
            <a:ext cx="2017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8B8D-6529-455D-89BB-6E9D994CC0C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272880" y="639720"/>
            <a:ext cx="3165480" cy="3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L’AMBITO OPERATIV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tangolo 3"/>
          <p:cNvSpPr/>
          <p:nvPr/>
        </p:nvSpPr>
        <p:spPr>
          <a:xfrm>
            <a:off x="252360" y="1135080"/>
            <a:ext cx="865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L’attività di chiusura delle buche in carreggiata si configura per le seguenti situazioni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4"/>
          <p:cNvSpPr/>
          <p:nvPr/>
        </p:nvSpPr>
        <p:spPr>
          <a:xfrm>
            <a:off x="246240" y="2155680"/>
            <a:ext cx="8651520" cy="43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piccoli sfondament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it-IT" sz="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it-IT" sz="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it-IT" sz="8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- ragnate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- bruci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per i soli interventi in Emergenza e/o Marcia Lenta sulle tratte a tre corsie (almeno nella prima fase del progetto) dei Centri Esercizio ROMA3 e ROMA 4 (A1 dal km 491 al km 633 in entrambe le carreggiate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tangolo 5"/>
          <p:cNvSpPr/>
          <p:nvPr/>
        </p:nvSpPr>
        <p:spPr>
          <a:xfrm>
            <a:off x="7174080" y="2637000"/>
            <a:ext cx="180648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ff0000"/>
                </a:solidFill>
                <a:uFillTx/>
                <a:latin typeface="Arial"/>
              </a:rPr>
              <a:t>Superficie max: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10 m</a:t>
            </a:r>
            <a:r>
              <a:rPr b="1" lang="it-IT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 baseline="30000">
                <a:solidFill>
                  <a:srgbClr val="ff0000"/>
                </a:solidFill>
                <a:uFillTx/>
                <a:latin typeface="Arial"/>
              </a:rPr>
              <a:t>Profondità max: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15 c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arentesi graffa chiusa 6"/>
          <p:cNvSpPr/>
          <p:nvPr/>
        </p:nvSpPr>
        <p:spPr>
          <a:xfrm>
            <a:off x="6659640" y="1541520"/>
            <a:ext cx="450720" cy="4013280"/>
          </a:xfrm>
          <a:custGeom>
            <a:avLst/>
            <a:gdLst>
              <a:gd name="textAreaLeft" fmla="*/ 0 w 450720"/>
              <a:gd name="textAreaRight" fmla="*/ 162720 w 450720"/>
              <a:gd name="textAreaTop" fmla="*/ 110880 h 4013280"/>
              <a:gd name="textAreaBottom" fmla="*/ 3902400 h 401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56"/>
                  <a:pt x="10800" y="1912"/>
                </a:cubicBezTo>
                <a:lnTo>
                  <a:pt x="10800" y="8888"/>
                </a:lnTo>
                <a:cubicBezTo>
                  <a:pt x="10800" y="9844"/>
                  <a:pt x="16200" y="10800"/>
                  <a:pt x="21600" y="10800"/>
                </a:cubicBezTo>
                <a:cubicBezTo>
                  <a:pt x="16200" y="10800"/>
                  <a:pt x="10800" y="11756"/>
                  <a:pt x="10800" y="12712"/>
                </a:cubicBezTo>
                <a:lnTo>
                  <a:pt x="10800" y="19688"/>
                </a:lnTo>
                <a:cubicBezTo>
                  <a:pt x="10800" y="2064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magine 7" descr="bruciatura.JPG"/>
          <p:cNvPicPr/>
          <p:nvPr/>
        </p:nvPicPr>
        <p:blipFill>
          <a:blip r:embed="rId1"/>
          <a:srcRect l="20050" t="23698" r="22018" b="31417"/>
          <a:stretch/>
        </p:blipFill>
        <p:spPr>
          <a:xfrm>
            <a:off x="3889440" y="3916440"/>
            <a:ext cx="2662200" cy="1647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3" name="Immagine 8" descr="ramificata_in_stato_avanzato.JPG"/>
          <p:cNvPicPr/>
          <p:nvPr/>
        </p:nvPicPr>
        <p:blipFill>
          <a:blip r:embed="rId2"/>
          <a:srcRect l="12092" t="9749" r="5081" b="8268"/>
          <a:stretch/>
        </p:blipFill>
        <p:spPr>
          <a:xfrm>
            <a:off x="382680" y="2825640"/>
            <a:ext cx="2565360" cy="1571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4" name="Immagine 9" descr="sfondamento.jpg"/>
          <p:cNvPicPr/>
          <p:nvPr/>
        </p:nvPicPr>
        <p:blipFill>
          <a:blip r:embed="rId3"/>
          <a:srcRect l="25474" t="32214" r="29618" b="24029"/>
          <a:stretch/>
        </p:blipFill>
        <p:spPr>
          <a:xfrm>
            <a:off x="3903840" y="1555920"/>
            <a:ext cx="2633400" cy="1650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116840" y="6589800"/>
            <a:ext cx="2017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3BC3-3AC4-40EC-B974-431D5C53FD6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272880" y="639720"/>
            <a:ext cx="4313520" cy="3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LA SQUADRA D’ INTERVE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tangolo 3"/>
          <p:cNvSpPr/>
          <p:nvPr/>
        </p:nvSpPr>
        <p:spPr>
          <a:xfrm>
            <a:off x="3727440" y="2725560"/>
            <a:ext cx="35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IVECO “50” per SEGNALET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(2 operator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ttangolo 5"/>
          <p:cNvSpPr/>
          <p:nvPr/>
        </p:nvSpPr>
        <p:spPr>
          <a:xfrm>
            <a:off x="1487520" y="1130400"/>
            <a:ext cx="339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CARRELLONE per trasporto mezzi special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(1 operato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ttangolo 6"/>
          <p:cNvSpPr/>
          <p:nvPr/>
        </p:nvSpPr>
        <p:spPr>
          <a:xfrm>
            <a:off x="1848960" y="411948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100” con gru per MATERI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(1 operato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tangolo 7"/>
          <p:cNvSpPr/>
          <p:nvPr/>
        </p:nvSpPr>
        <p:spPr>
          <a:xfrm>
            <a:off x="245160" y="506412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BOBC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fresa/spazzo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tangolo 8"/>
          <p:cNvSpPr/>
          <p:nvPr/>
        </p:nvSpPr>
        <p:spPr>
          <a:xfrm>
            <a:off x="5714280" y="536724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Rul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sellaDiTesto 9"/>
          <p:cNvSpPr/>
          <p:nvPr/>
        </p:nvSpPr>
        <p:spPr>
          <a:xfrm>
            <a:off x="4108320" y="1501920"/>
            <a:ext cx="5050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sellaDiTesto 10"/>
          <p:cNvSpPr/>
          <p:nvPr/>
        </p:nvSpPr>
        <p:spPr>
          <a:xfrm>
            <a:off x="7316640" y="2854440"/>
            <a:ext cx="5050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asellaDiTesto 11"/>
          <p:cNvSpPr/>
          <p:nvPr/>
        </p:nvSpPr>
        <p:spPr>
          <a:xfrm>
            <a:off x="1287360" y="4316400"/>
            <a:ext cx="505080" cy="368280"/>
          </a:xfrm>
          <a:prstGeom prst="rect">
            <a:avLst/>
          </a:prstGeom>
          <a:solidFill>
            <a:srgbClr val="bfbfb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sellaDiTesto 12"/>
          <p:cNvSpPr/>
          <p:nvPr/>
        </p:nvSpPr>
        <p:spPr>
          <a:xfrm>
            <a:off x="307800" y="5657760"/>
            <a:ext cx="50508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sellaDiTesto 13"/>
          <p:cNvSpPr/>
          <p:nvPr/>
        </p:nvSpPr>
        <p:spPr>
          <a:xfrm>
            <a:off x="5810400" y="5740560"/>
            <a:ext cx="50472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9" descr=""/>
          <p:cNvPicPr/>
          <p:nvPr/>
        </p:nvPicPr>
        <p:blipFill>
          <a:blip r:embed="rId1"/>
          <a:srcRect l="13155" t="23696" r="22482" b="27052"/>
          <a:stretch/>
        </p:blipFill>
        <p:spPr>
          <a:xfrm>
            <a:off x="395280" y="2222640"/>
            <a:ext cx="3193920" cy="1833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8" name="Picture 20" descr=""/>
          <p:cNvPicPr/>
          <p:nvPr/>
        </p:nvPicPr>
        <p:blipFill>
          <a:blip r:embed="rId2"/>
          <a:srcRect l="25652" t="29247" r="28033" b="30458"/>
          <a:stretch/>
        </p:blipFill>
        <p:spPr>
          <a:xfrm>
            <a:off x="5554800" y="3343320"/>
            <a:ext cx="3125520" cy="1760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9" name="Picture 21" descr=""/>
          <p:cNvPicPr/>
          <p:nvPr/>
        </p:nvPicPr>
        <p:blipFill>
          <a:blip r:embed="rId3"/>
          <a:srcRect l="12642" t="27008" r="22157" b="28219"/>
          <a:stretch/>
        </p:blipFill>
        <p:spPr>
          <a:xfrm>
            <a:off x="4898880" y="546120"/>
            <a:ext cx="4029120" cy="20746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0" name="Picture 22" descr="C:\Documents and Settings\00695057\Desktop\FOTO BUCHE A CALDO su es510\P1000220.JPG"/>
          <p:cNvPicPr/>
          <p:nvPr/>
        </p:nvPicPr>
        <p:blipFill>
          <a:blip r:embed="rId4"/>
          <a:srcRect l="4039" t="19351" r="6847" b="21444"/>
          <a:stretch/>
        </p:blipFill>
        <p:spPr>
          <a:xfrm>
            <a:off x="2030400" y="5091120"/>
            <a:ext cx="1484280" cy="13143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1" name="Picture 23" descr="C:\Documents and Settings\00695057\Desktop\FOTO BUCHE A CALDO su es510\P1000217.JPG"/>
          <p:cNvPicPr/>
          <p:nvPr/>
        </p:nvPicPr>
        <p:blipFill>
          <a:blip r:embed="rId5"/>
          <a:srcRect l="6303" t="6426" r="17548" b="10617"/>
          <a:stretch/>
        </p:blipFill>
        <p:spPr>
          <a:xfrm>
            <a:off x="3616200" y="5103720"/>
            <a:ext cx="1571760" cy="12826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2" name="Picture 20" descr="http://www.glispensierati.it/images/offerte/rulloasfalto.jpg"/>
          <p:cNvPicPr/>
          <p:nvPr/>
        </p:nvPicPr>
        <p:blipFill>
          <a:blip r:embed="rId6"/>
          <a:srcRect l="16616" t="21829" r="16692" b="20536"/>
          <a:stretch/>
        </p:blipFill>
        <p:spPr>
          <a:xfrm>
            <a:off x="6659640" y="5240160"/>
            <a:ext cx="1406520" cy="1214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egnaposto numero diapositiva 3"/>
          <p:cNvSpPr/>
          <p:nvPr/>
        </p:nvSpPr>
        <p:spPr>
          <a:xfrm>
            <a:off x="7116840" y="6589800"/>
            <a:ext cx="2017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649E-A747-4FAA-951B-2998248A7D5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204840" y="612720"/>
            <a:ext cx="4572000" cy="3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LA SEGNALETICA (1/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30320" y="1535040"/>
            <a:ext cx="8794440" cy="4456080"/>
          </a:xfrm>
          <a:prstGeom prst="rect">
            <a:avLst/>
          </a:prstGeom>
          <a:ln w="0">
            <a:noFill/>
          </a:ln>
        </p:spPr>
      </p:pic>
      <p:sp>
        <p:nvSpPr>
          <p:cNvPr id="138" name="Rettangolo 12"/>
          <p:cNvSpPr/>
          <p:nvPr/>
        </p:nvSpPr>
        <p:spPr>
          <a:xfrm>
            <a:off x="115920" y="1019160"/>
            <a:ext cx="890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La chiusura della corsia di marcia prevede l’installazione della segnaletica come da schema seguent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2"/>
          <p:cNvSpPr/>
          <p:nvPr/>
        </p:nvSpPr>
        <p:spPr>
          <a:xfrm>
            <a:off x="196920" y="6043680"/>
            <a:ext cx="8769240" cy="459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Nel rispetto delle “Linee guida dell’Operatore su Strada” il personale impiegato per la segnaletica e di 3 unità distribuite tra il mezzo della segnaletica e quello per il trasporto del materiale (la quarta unità è dedicata al carrellone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1"/>
          <p:cNvSpPr/>
          <p:nvPr/>
        </p:nvSpPr>
        <p:spPr>
          <a:xfrm>
            <a:off x="7116840" y="6589800"/>
            <a:ext cx="2017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5A36-0AAE-422D-B8DB-94708302FC1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04840" y="612720"/>
            <a:ext cx="4572000" cy="3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LA SEGNALETICA (2/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ttangolo 3"/>
          <p:cNvSpPr/>
          <p:nvPr/>
        </p:nvSpPr>
        <p:spPr>
          <a:xfrm>
            <a:off x="157320" y="1114560"/>
            <a:ext cx="61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La sequenza di intervento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ttangolo 4"/>
          <p:cNvSpPr/>
          <p:nvPr/>
        </p:nvSpPr>
        <p:spPr>
          <a:xfrm>
            <a:off x="173160" y="1403280"/>
            <a:ext cx="8970840" cy="35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ed              si portano in prossimità del punto di intervento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Contattano la Sala Radio per l’attivazione del cantiere “inizio posa segnaletica”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alza il pannello con l’indicazione dei “lavori in corso”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Un operatore di             risale a piedi l’emergenza e presegnala (200 m) con sbandieramento la presenza degli operai al lavoro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Gli operatori di            ed            avanzano in coppia coi mezzi, sostando per l’apposizione della segnaletica di preavviso e di chiusura della corsia di marcia. Infine avvisano la Sala Radio del “fine posa segnaletica”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raggiunge il cantiere ed entra nella segnalet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asellaDiTesto 5"/>
          <p:cNvSpPr/>
          <p:nvPr/>
        </p:nvSpPr>
        <p:spPr>
          <a:xfrm>
            <a:off x="1571760" y="1434960"/>
            <a:ext cx="504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sellaDiTesto 6"/>
          <p:cNvSpPr/>
          <p:nvPr/>
        </p:nvSpPr>
        <p:spPr>
          <a:xfrm>
            <a:off x="563400" y="1438200"/>
            <a:ext cx="505080" cy="368280"/>
          </a:xfrm>
          <a:prstGeom prst="rect">
            <a:avLst/>
          </a:prstGeom>
          <a:solidFill>
            <a:srgbClr val="bfbfb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asellaDiTesto 7"/>
          <p:cNvSpPr/>
          <p:nvPr/>
        </p:nvSpPr>
        <p:spPr>
          <a:xfrm>
            <a:off x="550800" y="2311560"/>
            <a:ext cx="504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sellaDiTesto 10"/>
          <p:cNvSpPr/>
          <p:nvPr/>
        </p:nvSpPr>
        <p:spPr>
          <a:xfrm>
            <a:off x="2968560" y="3500280"/>
            <a:ext cx="504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sellaDiTesto 11"/>
          <p:cNvSpPr/>
          <p:nvPr/>
        </p:nvSpPr>
        <p:spPr>
          <a:xfrm>
            <a:off x="531720" y="4586400"/>
            <a:ext cx="5050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rcRect l="11945" t="41886" r="0" b="20228"/>
          <a:stretch/>
        </p:blipFill>
        <p:spPr>
          <a:xfrm>
            <a:off x="1365120" y="5035680"/>
            <a:ext cx="7696440" cy="17715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50" name="CasellaDiTesto 13"/>
          <p:cNvSpPr/>
          <p:nvPr/>
        </p:nvSpPr>
        <p:spPr>
          <a:xfrm>
            <a:off x="3133800" y="5850000"/>
            <a:ext cx="304560" cy="246240"/>
          </a:xfrm>
          <a:prstGeom prst="rect">
            <a:avLst/>
          </a:prstGeom>
          <a:solidFill>
            <a:srgbClr val="bfbfb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asellaDiTesto 14"/>
          <p:cNvSpPr/>
          <p:nvPr/>
        </p:nvSpPr>
        <p:spPr>
          <a:xfrm>
            <a:off x="3517920" y="5853240"/>
            <a:ext cx="30492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sellaDiTesto 15"/>
          <p:cNvSpPr/>
          <p:nvPr/>
        </p:nvSpPr>
        <p:spPr>
          <a:xfrm>
            <a:off x="2281320" y="5856120"/>
            <a:ext cx="304560" cy="246240"/>
          </a:xfrm>
          <a:prstGeom prst="rect">
            <a:avLst/>
          </a:prstGeom>
          <a:solidFill>
            <a:srgbClr val="ffc0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tangolo 16"/>
          <p:cNvSpPr/>
          <p:nvPr/>
        </p:nvSpPr>
        <p:spPr>
          <a:xfrm>
            <a:off x="2711520" y="5934240"/>
            <a:ext cx="341280" cy="187200"/>
          </a:xfrm>
          <a:prstGeom prst="rect">
            <a:avLst/>
          </a:pr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nnettore 1 18"/>
          <p:cNvSpPr/>
          <p:nvPr/>
        </p:nvSpPr>
        <p:spPr>
          <a:xfrm flipH="1" flipV="1">
            <a:off x="2733480" y="5946480"/>
            <a:ext cx="298440" cy="168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nettore 1 19"/>
          <p:cNvSpPr/>
          <p:nvPr/>
        </p:nvSpPr>
        <p:spPr>
          <a:xfrm flipH="1">
            <a:off x="2739960" y="5938200"/>
            <a:ext cx="279360" cy="1746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asellaDiTesto 26"/>
          <p:cNvSpPr/>
          <p:nvPr/>
        </p:nvSpPr>
        <p:spPr>
          <a:xfrm>
            <a:off x="2135160" y="2736720"/>
            <a:ext cx="5065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sellaDiTesto 27"/>
          <p:cNvSpPr/>
          <p:nvPr/>
        </p:nvSpPr>
        <p:spPr>
          <a:xfrm>
            <a:off x="2066760" y="3487680"/>
            <a:ext cx="506520" cy="368280"/>
          </a:xfrm>
          <a:prstGeom prst="rect">
            <a:avLst/>
          </a:prstGeom>
          <a:solidFill>
            <a:srgbClr val="bfbfb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numero diapositiva 1"/>
          <p:cNvSpPr/>
          <p:nvPr/>
        </p:nvSpPr>
        <p:spPr>
          <a:xfrm>
            <a:off x="7116840" y="6589800"/>
            <a:ext cx="2017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905A-BDA0-4DBF-9EEC-832679F87AA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204840" y="612720"/>
            <a:ext cx="4572000" cy="3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IL RIPRISTI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tangolo 3"/>
          <p:cNvSpPr/>
          <p:nvPr/>
        </p:nvSpPr>
        <p:spPr>
          <a:xfrm>
            <a:off x="171360" y="1114560"/>
            <a:ext cx="853596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Completate le operazioni di installazione del cantie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un operatore prosegue nello sbandieramento di presegnalazione del cantier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i rimanenti 3 componenti della squadra procedono alle seguenti attività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Scaricano il BOBCat  dal Carrellone e lo allestiscono in modalità “fresa”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Circoscrivono l’area dell’intervento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Fresano la pavimentazione ammalorata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Rimuovono il fresato con il BOBCat allestito a “spazzatrice”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Accantonano il fresato da caricare successivamente su            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Preparano l’area con l’emulsione bituminosa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Scaricano da           l’asfalto a caldo all’interno dello scavo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Stendono con il badile l’asfalto nella buca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Rullano la superfic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asellaDiTesto 5"/>
          <p:cNvSpPr/>
          <p:nvPr/>
        </p:nvSpPr>
        <p:spPr>
          <a:xfrm>
            <a:off x="6942240" y="3639960"/>
            <a:ext cx="504720" cy="368280"/>
          </a:xfrm>
          <a:prstGeom prst="rect">
            <a:avLst/>
          </a:prstGeom>
          <a:solidFill>
            <a:srgbClr val="bfbfb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ttangolo 6"/>
          <p:cNvSpPr/>
          <p:nvPr/>
        </p:nvSpPr>
        <p:spPr>
          <a:xfrm>
            <a:off x="210960" y="5837400"/>
            <a:ext cx="870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Al termine delle operazioni procedono a rimuovere la segnaletica coordinandosi con la Sala Radio così come da “Linee guida dell’Operatore su strada”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asellaDiTesto 8"/>
          <p:cNvSpPr/>
          <p:nvPr/>
        </p:nvSpPr>
        <p:spPr>
          <a:xfrm>
            <a:off x="2822400" y="4378320"/>
            <a:ext cx="505080" cy="368280"/>
          </a:xfrm>
          <a:prstGeom prst="rect">
            <a:avLst/>
          </a:prstGeom>
          <a:solidFill>
            <a:srgbClr val="bfbfb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7"/>
          <p:cNvSpPr/>
          <p:nvPr/>
        </p:nvSpPr>
        <p:spPr>
          <a:xfrm>
            <a:off x="7116840" y="6589800"/>
            <a:ext cx="2017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F352-F142-4994-9CD3-B191FDDFECB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917960" y="0"/>
            <a:ext cx="423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anutenzione in house: chiusura buche a cal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DSCN5773"/>
          <p:cNvPicPr/>
          <p:nvPr/>
        </p:nvPicPr>
        <p:blipFill>
          <a:blip r:embed="rId1"/>
          <a:stretch/>
        </p:blipFill>
        <p:spPr>
          <a:xfrm>
            <a:off x="7216920" y="731880"/>
            <a:ext cx="1726920" cy="1295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67" name="Picture 8" descr="DSCN5793"/>
          <p:cNvPicPr/>
          <p:nvPr/>
        </p:nvPicPr>
        <p:blipFill>
          <a:blip r:embed="rId2"/>
          <a:stretch/>
        </p:blipFill>
        <p:spPr>
          <a:xfrm>
            <a:off x="7272360" y="5199120"/>
            <a:ext cx="1727280" cy="1295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68" name="Picture 9" descr="DSCN5787"/>
          <p:cNvPicPr/>
          <p:nvPr/>
        </p:nvPicPr>
        <p:blipFill>
          <a:blip r:embed="rId3"/>
          <a:stretch/>
        </p:blipFill>
        <p:spPr>
          <a:xfrm>
            <a:off x="7229520" y="2243160"/>
            <a:ext cx="1727280" cy="1295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69" name="Picture 10" descr="DSCN5791"/>
          <p:cNvPicPr/>
          <p:nvPr/>
        </p:nvPicPr>
        <p:blipFill>
          <a:blip r:embed="rId4"/>
          <a:stretch/>
        </p:blipFill>
        <p:spPr>
          <a:xfrm>
            <a:off x="7257960" y="3714840"/>
            <a:ext cx="1727280" cy="1295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70" name="Rectangle 15"/>
          <p:cNvSpPr/>
          <p:nvPr/>
        </p:nvSpPr>
        <p:spPr>
          <a:xfrm>
            <a:off x="165240" y="1444680"/>
            <a:ext cx="6918120" cy="1321560"/>
          </a:xfrm>
          <a:prstGeom prst="rect">
            <a:avLst/>
          </a:pr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- Attività ad alto livello tecnologico non completamente automatizz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- Attività molto remunerativ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- Tempi di intervento ridotti rispetto a quelli garantiti dalle imprese ester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204840" y="612720"/>
            <a:ext cx="5827680" cy="3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PUNTI DI FORZA E POSSIBILI SVILUPP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ttangolo 13"/>
          <p:cNvSpPr/>
          <p:nvPr/>
        </p:nvSpPr>
        <p:spPr>
          <a:xfrm>
            <a:off x="190440" y="2975040"/>
            <a:ext cx="6905520" cy="298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Un  ulteriore  punto di forza  sono gli interventi da  realizzare  all’interno delle AREE  DI SERVIZIO  in considerazione  della gestione internalizzata  delle  stes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Verranno inoltre analizzate modalità integrative per consentire  interventi anche su corsie di Marcia Veloce o Sorpasso, sperimentandone la fattibilità in “bretella”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Al  termine  della  stagione  invernale  verra’ altresi’  avviato  l’uso del termocontainer  alfine  di avere  immediata disponibilita’   del materiale  bituminoso  per  la  stesa  fina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0650206</cp:lastModifiedBy>
  <dcterms:modified xsi:type="dcterms:W3CDTF">2011-03-25T13:55:43Z</dcterms:modified>
  <cp:revision>309</cp:revision>
  <dc:subject/>
  <dc:title>PROGETTO PROGRAMMAZIONE ATTIVITÀ  AUSILIARI DELLA VIABILITÀ</dc:title>
</cp:coreProperties>
</file>